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E1D-A53D-4181-A92A-354648A8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3A5-CCA8-4D31-B809-68E1745A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5DD-743E-4B68-A350-70C79A0E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66F-BC3B-4682-9013-E82D2DB1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AD6-46D6-43B0-969F-F14BD360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E93-42B5-4215-BC71-CB8C55F1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FEA-16FD-40AB-B3E7-0A79FE2A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CC6-643F-40BF-ADD5-9BAA1475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770-FB4E-4E26-BED6-CC2B0FB7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9DD-96C3-4952-A5A2-4CF3DCE3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28B-D0C1-4587-8EB0-45C26EFE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A46-A690-4668-89C8-DBD82D5F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480C-458A-46DB-B23A-6B568E9C33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11B Simultaneous linear inequations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solution to a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system of linear inequations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satisfies more than one inequation </a:t>
            </a:r>
            <a:r>
              <a:rPr b="1" lang="en-AU" sz="3200" spc="-1" strike="noStrike">
                <a:solidFill>
                  <a:srgbClr val="000000"/>
                </a:solidFill>
                <a:latin typeface="Cambria Math"/>
              </a:rPr>
              <a:t>at the same time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</a:rPr>
              <a:t>Graphical solution</a:t>
            </a: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Graph the solution for the first linear inequation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Graph the solution for the second linear inequation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solution to both inequations is the intersection of the solution regions from Steps 1 and 2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The solution region is also called the feasible region. It will be a polygon.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Examples: Ex 11B, Q. 1, 5, 8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</a:rPr>
              <a:t>You do Ex 11B, Q. 3, 6, 10, 11, 13</a:t>
            </a: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1:57:59Z</dcterms:created>
  <dc:creator>08843474</dc:creator>
  <dc:description/>
  <dc:language>en-US</dc:language>
  <cp:lastModifiedBy>08843474</cp:lastModifiedBy>
  <dcterms:modified xsi:type="dcterms:W3CDTF">2011-06-16T02:27:15Z</dcterms:modified>
  <cp:revision>2</cp:revision>
  <dc:subject/>
  <dc:title>11B Simultaneous linear inequations</dc:title>
</cp:coreProperties>
</file>